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wmf" ContentType="image/x-wmf"/>
  <Override PartName="/ppt/media/image25.jpeg" ContentType="image/jpeg"/>
  <Override PartName="/ppt/media/image7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5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png" ContentType="image/png"/>
  <Override PartName="/ppt/media/image14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27A-79D0-4CB2-87A8-EF1EE121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F7A-8B4B-4D28-BB3B-ADCE3510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B93-FD70-4D24-A96C-DE5C9DE3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CDF-6A11-45FF-B7CD-7E27A947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EF0-C808-4260-AD9A-F3E7E4EA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259-1177-4F0A-AA57-A188E908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536-C9B3-4141-839D-77CC14B7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A9B-70F0-4701-8E80-684CF47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951-F31D-49B7-855E-786289BA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AFB-9567-401B-ABEB-027182A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DAB-74D9-488B-98CF-609D5E14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DA8-2C0C-43FD-94C8-C892DDA8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087D-63C1-4677-AEEA-3F3ECEFD6D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image" Target="../media/image12.png"/><Relationship Id="rId4" Type="http://schemas.openxmlformats.org/officeDocument/2006/relationships/slide" Target="slide10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1846P1T1D22320210F21DT20110419151552"/>
          <p:cNvPicPr/>
          <p:nvPr/>
        </p:nvPicPr>
        <p:blipFill>
          <a:blip r:embed="rId1"/>
          <a:srcRect l="9895" t="39256" r="-2336" b="0"/>
          <a:stretch/>
        </p:blipFill>
        <p:spPr>
          <a:xfrm>
            <a:off x="0" y="-25560"/>
            <a:ext cx="93963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1404720" y="0"/>
            <a:ext cx="6005520" cy="4333320"/>
            <a:chOff x="1404720" y="0"/>
            <a:chExt cx="6005520" cy="4333320"/>
          </a:xfrm>
        </p:grpSpPr>
        <p:grpSp>
          <p:nvGrpSpPr>
            <p:cNvPr id="104" name="Group 3"/>
            <p:cNvGrpSpPr/>
            <p:nvPr/>
          </p:nvGrpSpPr>
          <p:grpSpPr>
            <a:xfrm>
              <a:off x="1768320" y="0"/>
              <a:ext cx="5641920" cy="4333320"/>
              <a:chOff x="1768320" y="0"/>
              <a:chExt cx="5641920" cy="4333320"/>
            </a:xfrm>
          </p:grpSpPr>
          <p:grpSp>
            <p:nvGrpSpPr>
              <p:cNvPr id="105" name="Group 4"/>
              <p:cNvGrpSpPr/>
              <p:nvPr/>
            </p:nvGrpSpPr>
            <p:grpSpPr>
              <a:xfrm>
                <a:off x="2055600" y="225360"/>
                <a:ext cx="4465800" cy="3573360"/>
                <a:chOff x="2055600" y="225360"/>
                <a:chExt cx="4465800" cy="3573360"/>
              </a:xfrm>
            </p:grpSpPr>
            <p:sp>
              <p:nvSpPr>
                <p:cNvPr id="106" name="Line 5"/>
                <p:cNvSpPr/>
                <p:nvPr/>
              </p:nvSpPr>
              <p:spPr>
                <a:xfrm flipV="1">
                  <a:off x="2055600" y="225360"/>
                  <a:ext cx="0" cy="357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2055600" y="3798720"/>
                  <a:ext cx="446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7"/>
                <p:cNvSpPr/>
                <p:nvPr/>
              </p:nvSpPr>
              <p:spPr>
                <a:xfrm>
                  <a:off x="5356080" y="328140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8"/>
                <p:cNvSpPr/>
                <p:nvPr/>
              </p:nvSpPr>
              <p:spPr>
                <a:xfrm>
                  <a:off x="4695480" y="328140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9"/>
                <p:cNvSpPr/>
                <p:nvPr/>
              </p:nvSpPr>
              <p:spPr>
                <a:xfrm>
                  <a:off x="4036680" y="3281400"/>
                  <a:ext cx="6588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10"/>
                <p:cNvSpPr/>
                <p:nvPr/>
              </p:nvSpPr>
              <p:spPr>
                <a:xfrm>
                  <a:off x="3376440" y="328140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11"/>
                <p:cNvSpPr/>
                <p:nvPr/>
              </p:nvSpPr>
              <p:spPr>
                <a:xfrm>
                  <a:off x="2715840" y="328140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12"/>
                <p:cNvSpPr/>
                <p:nvPr/>
              </p:nvSpPr>
              <p:spPr>
                <a:xfrm>
                  <a:off x="2055600" y="328140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13"/>
                <p:cNvSpPr/>
                <p:nvPr/>
              </p:nvSpPr>
              <p:spPr>
                <a:xfrm>
                  <a:off x="5356080" y="276372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14"/>
                <p:cNvSpPr/>
                <p:nvPr/>
              </p:nvSpPr>
              <p:spPr>
                <a:xfrm>
                  <a:off x="4695480" y="276372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15"/>
                <p:cNvSpPr/>
                <p:nvPr/>
              </p:nvSpPr>
              <p:spPr>
                <a:xfrm>
                  <a:off x="4036680" y="2763720"/>
                  <a:ext cx="6588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16"/>
                <p:cNvSpPr/>
                <p:nvPr/>
              </p:nvSpPr>
              <p:spPr>
                <a:xfrm>
                  <a:off x="3376440" y="276372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17"/>
                <p:cNvSpPr/>
                <p:nvPr/>
              </p:nvSpPr>
              <p:spPr>
                <a:xfrm>
                  <a:off x="2715840" y="276372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18"/>
                <p:cNvSpPr/>
                <p:nvPr/>
              </p:nvSpPr>
              <p:spPr>
                <a:xfrm>
                  <a:off x="2055600" y="276372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19"/>
                <p:cNvSpPr/>
                <p:nvPr/>
              </p:nvSpPr>
              <p:spPr>
                <a:xfrm>
                  <a:off x="5356080" y="224640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0"/>
                <p:cNvSpPr/>
                <p:nvPr/>
              </p:nvSpPr>
              <p:spPr>
                <a:xfrm>
                  <a:off x="4695480" y="224640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1"/>
                <p:cNvSpPr/>
                <p:nvPr/>
              </p:nvSpPr>
              <p:spPr>
                <a:xfrm>
                  <a:off x="4036680" y="2246400"/>
                  <a:ext cx="6588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2"/>
                <p:cNvSpPr/>
                <p:nvPr/>
              </p:nvSpPr>
              <p:spPr>
                <a:xfrm>
                  <a:off x="3376440" y="224640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2715840" y="224640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4"/>
                <p:cNvSpPr/>
                <p:nvPr/>
              </p:nvSpPr>
              <p:spPr>
                <a:xfrm>
                  <a:off x="2055600" y="224640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25"/>
                <p:cNvSpPr/>
                <p:nvPr/>
              </p:nvSpPr>
              <p:spPr>
                <a:xfrm>
                  <a:off x="5356080" y="172872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4695480" y="172872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27"/>
                <p:cNvSpPr/>
                <p:nvPr/>
              </p:nvSpPr>
              <p:spPr>
                <a:xfrm>
                  <a:off x="4036680" y="1728720"/>
                  <a:ext cx="6588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28"/>
                <p:cNvSpPr/>
                <p:nvPr/>
              </p:nvSpPr>
              <p:spPr>
                <a:xfrm>
                  <a:off x="3376440" y="172872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29"/>
                <p:cNvSpPr/>
                <p:nvPr/>
              </p:nvSpPr>
              <p:spPr>
                <a:xfrm>
                  <a:off x="2715840" y="172872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30"/>
                <p:cNvSpPr/>
                <p:nvPr/>
              </p:nvSpPr>
              <p:spPr>
                <a:xfrm>
                  <a:off x="2055600" y="172872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31"/>
                <p:cNvSpPr/>
                <p:nvPr/>
              </p:nvSpPr>
              <p:spPr>
                <a:xfrm>
                  <a:off x="5356080" y="1211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32"/>
                <p:cNvSpPr/>
                <p:nvPr/>
              </p:nvSpPr>
              <p:spPr>
                <a:xfrm>
                  <a:off x="4695480" y="121104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33"/>
                <p:cNvSpPr/>
                <p:nvPr/>
              </p:nvSpPr>
              <p:spPr>
                <a:xfrm>
                  <a:off x="4036680" y="1211040"/>
                  <a:ext cx="6588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34"/>
                <p:cNvSpPr/>
                <p:nvPr/>
              </p:nvSpPr>
              <p:spPr>
                <a:xfrm>
                  <a:off x="3376440" y="1211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35"/>
                <p:cNvSpPr/>
                <p:nvPr/>
              </p:nvSpPr>
              <p:spPr>
                <a:xfrm>
                  <a:off x="2715840" y="121104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36"/>
                <p:cNvSpPr/>
                <p:nvPr/>
              </p:nvSpPr>
              <p:spPr>
                <a:xfrm>
                  <a:off x="2055600" y="1211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37"/>
                <p:cNvSpPr/>
                <p:nvPr/>
              </p:nvSpPr>
              <p:spPr>
                <a:xfrm>
                  <a:off x="5356080" y="693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38"/>
                <p:cNvSpPr/>
                <p:nvPr/>
              </p:nvSpPr>
              <p:spPr>
                <a:xfrm>
                  <a:off x="4695480" y="69372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39"/>
                <p:cNvSpPr/>
                <p:nvPr/>
              </p:nvSpPr>
              <p:spPr>
                <a:xfrm>
                  <a:off x="4036680" y="693720"/>
                  <a:ext cx="6588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40"/>
                <p:cNvSpPr/>
                <p:nvPr/>
              </p:nvSpPr>
              <p:spPr>
                <a:xfrm>
                  <a:off x="3376440" y="693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41"/>
                <p:cNvSpPr/>
                <p:nvPr/>
              </p:nvSpPr>
              <p:spPr>
                <a:xfrm>
                  <a:off x="2715840" y="69372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42"/>
                <p:cNvSpPr/>
                <p:nvPr/>
              </p:nvSpPr>
              <p:spPr>
                <a:xfrm>
                  <a:off x="2055600" y="693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2055600" y="693720"/>
                  <a:ext cx="39607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2055600" y="1211040"/>
                  <a:ext cx="3960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2055600" y="1728720"/>
                  <a:ext cx="3960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2055600" y="2246400"/>
                  <a:ext cx="3960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2055600" y="2763720"/>
                  <a:ext cx="3960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2055600" y="3281400"/>
                  <a:ext cx="3960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2055600" y="3798720"/>
                  <a:ext cx="39607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2055600" y="693720"/>
                  <a:ext cx="0" cy="31050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2715840" y="693720"/>
                  <a:ext cx="0" cy="310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3376440" y="693720"/>
                  <a:ext cx="0" cy="310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4036680" y="693720"/>
                  <a:ext cx="0" cy="310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4695480" y="693720"/>
                  <a:ext cx="0" cy="310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5356080" y="693720"/>
                  <a:ext cx="0" cy="310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6"/>
                <p:cNvSpPr/>
                <p:nvPr/>
              </p:nvSpPr>
              <p:spPr>
                <a:xfrm>
                  <a:off x="6016320" y="693720"/>
                  <a:ext cx="0" cy="31050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57"/>
              <p:cNvSpPr/>
              <p:nvPr/>
            </p:nvSpPr>
            <p:spPr>
              <a:xfrm>
                <a:off x="1768320" y="3600360"/>
                <a:ext cx="37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8"/>
              <p:cNvSpPr/>
              <p:nvPr/>
            </p:nvSpPr>
            <p:spPr>
              <a:xfrm>
                <a:off x="2202120" y="3873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59"/>
              <p:cNvSpPr/>
              <p:nvPr/>
            </p:nvSpPr>
            <p:spPr>
              <a:xfrm>
                <a:off x="2994120" y="3833640"/>
                <a:ext cx="60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60"/>
              <p:cNvSpPr/>
              <p:nvPr/>
            </p:nvSpPr>
            <p:spPr>
              <a:xfrm>
                <a:off x="3627720" y="376236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0.1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61"/>
              <p:cNvSpPr/>
              <p:nvPr/>
            </p:nvSpPr>
            <p:spPr>
              <a:xfrm>
                <a:off x="4360680" y="376236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62"/>
              <p:cNvSpPr/>
              <p:nvPr/>
            </p:nvSpPr>
            <p:spPr>
              <a:xfrm>
                <a:off x="5008320" y="370512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63"/>
              <p:cNvSpPr/>
              <p:nvPr/>
            </p:nvSpPr>
            <p:spPr>
              <a:xfrm>
                <a:off x="6162840" y="3654360"/>
                <a:ext cx="124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m/kg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4"/>
              <p:cNvSpPr/>
              <p:nvPr/>
            </p:nvSpPr>
            <p:spPr>
              <a:xfrm>
                <a:off x="2038680" y="0"/>
                <a:ext cx="99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G/N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65"/>
            <p:cNvSpPr/>
            <p:nvPr/>
          </p:nvSpPr>
          <p:spPr>
            <a:xfrm>
              <a:off x="1404720" y="30463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66"/>
            <p:cNvSpPr/>
            <p:nvPr/>
          </p:nvSpPr>
          <p:spPr>
            <a:xfrm>
              <a:off x="1630440" y="2527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7"/>
            <p:cNvSpPr/>
            <p:nvPr/>
          </p:nvSpPr>
          <p:spPr>
            <a:xfrm>
              <a:off x="1436760" y="20224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8"/>
            <p:cNvSpPr/>
            <p:nvPr/>
          </p:nvSpPr>
          <p:spPr>
            <a:xfrm>
              <a:off x="1628640" y="14842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9"/>
            <p:cNvSpPr/>
            <p:nvPr/>
          </p:nvSpPr>
          <p:spPr>
            <a:xfrm>
              <a:off x="1434960" y="922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val 70"/>
          <p:cNvSpPr/>
          <p:nvPr/>
        </p:nvSpPr>
        <p:spPr>
          <a:xfrm flipV="1">
            <a:off x="2627280" y="3283920"/>
            <a:ext cx="144360" cy="73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1"/>
          <p:cNvSpPr/>
          <p:nvPr/>
        </p:nvSpPr>
        <p:spPr>
          <a:xfrm>
            <a:off x="3276720" y="2781360"/>
            <a:ext cx="14292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2"/>
          <p:cNvSpPr/>
          <p:nvPr/>
        </p:nvSpPr>
        <p:spPr>
          <a:xfrm>
            <a:off x="3995640" y="2205000"/>
            <a:ext cx="144720" cy="14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3"/>
          <p:cNvSpPr/>
          <p:nvPr/>
        </p:nvSpPr>
        <p:spPr>
          <a:xfrm flipV="1">
            <a:off x="2050920" y="691920"/>
            <a:ext cx="3961080" cy="3098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4"/>
          <p:cNvSpPr/>
          <p:nvPr/>
        </p:nvSpPr>
        <p:spPr>
          <a:xfrm>
            <a:off x="638280" y="4221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象说明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5"/>
          <p:cNvSpPr/>
          <p:nvPr/>
        </p:nvSpPr>
        <p:spPr>
          <a:xfrm>
            <a:off x="2340000" y="4365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质量增大几倍，重力也增大几倍，即物体所受的重力跟它的质量成正比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468360" y="98100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物体所受的重力与其质量成正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24000" y="37954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示重力与质量的比值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9.8N/k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读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9.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牛每千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示的意义是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质量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kg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物体所受到的重力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9.8N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01480" y="566712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计算方便在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粗略计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可以取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g=10N/k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4248360" y="2133720"/>
            <a:ext cx="4499280" cy="1373400"/>
            <a:chOff x="4248360" y="2133720"/>
            <a:chExt cx="4499280" cy="1373400"/>
          </a:xfrm>
        </p:grpSpPr>
        <p:sp>
          <p:nvSpPr>
            <p:cNvPr id="181" name="Rectangle 6"/>
            <p:cNvSpPr/>
            <p:nvPr/>
          </p:nvSpPr>
          <p:spPr>
            <a:xfrm>
              <a:off x="5801760" y="2133720"/>
              <a:ext cx="29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重力——牛顿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7"/>
            <p:cNvGrpSpPr/>
            <p:nvPr/>
          </p:nvGrpSpPr>
          <p:grpSpPr>
            <a:xfrm>
              <a:off x="4248360" y="2133720"/>
              <a:ext cx="4420800" cy="1373400"/>
              <a:chOff x="4248360" y="2133720"/>
              <a:chExt cx="4420800" cy="1373400"/>
            </a:xfrm>
          </p:grpSpPr>
          <p:grpSp>
            <p:nvGrpSpPr>
              <p:cNvPr id="183" name="Group 8"/>
              <p:cNvGrpSpPr/>
              <p:nvPr/>
            </p:nvGrpSpPr>
            <p:grpSpPr>
              <a:xfrm>
                <a:off x="4248360" y="2133720"/>
                <a:ext cx="1393920" cy="1343520"/>
                <a:chOff x="4248360" y="2133720"/>
                <a:chExt cx="1393920" cy="1343520"/>
              </a:xfrm>
            </p:grpSpPr>
            <p:sp>
              <p:nvSpPr>
                <p:cNvPr id="184" name="Text Box 9"/>
                <p:cNvSpPr/>
                <p:nvPr/>
              </p:nvSpPr>
              <p:spPr>
                <a:xfrm>
                  <a:off x="4258800" y="2133720"/>
                  <a:ext cx="1288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5050"/>
                      </a:solidFill>
                      <a:latin typeface="Tahoma"/>
                      <a:ea typeface="宋体"/>
                    </a:rPr>
                    <a:t>G</a:t>
                  </a:r>
                  <a:r>
                    <a:rPr b="1" lang="zh-CN" sz="3200" spc="-1" strike="noStrike">
                      <a:solidFill>
                        <a:srgbClr val="ff5050"/>
                      </a:solidFill>
                      <a:latin typeface="Times New Roman"/>
                      <a:ea typeface="宋体"/>
                    </a:rPr>
                    <a:t>——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10"/>
                <p:cNvSpPr/>
                <p:nvPr/>
              </p:nvSpPr>
              <p:spPr>
                <a:xfrm>
                  <a:off x="4248360" y="2895840"/>
                  <a:ext cx="1393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5050"/>
                      </a:solidFill>
                      <a:latin typeface="Tahoma"/>
                      <a:ea typeface="宋体"/>
                    </a:rPr>
                    <a:t>m</a:t>
                  </a:r>
                  <a:r>
                    <a:rPr b="1" lang="zh-CN" sz="3200" spc="-1" strike="noStrike">
                      <a:solidFill>
                        <a:srgbClr val="ff5050"/>
                      </a:solidFill>
                      <a:latin typeface="Times New Roman"/>
                      <a:ea typeface="宋体"/>
                    </a:rPr>
                    <a:t>——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Rectangle 11"/>
              <p:cNvSpPr/>
              <p:nvPr/>
            </p:nvSpPr>
            <p:spPr>
              <a:xfrm>
                <a:off x="5901120" y="2925720"/>
                <a:ext cx="2768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质量——千克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kg)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12"/>
          <p:cNvGrpSpPr/>
          <p:nvPr/>
        </p:nvGrpSpPr>
        <p:grpSpPr>
          <a:xfrm>
            <a:off x="539640" y="2205000"/>
            <a:ext cx="3600360" cy="1239840"/>
            <a:chOff x="539640" y="2205000"/>
            <a:chExt cx="3600360" cy="1239840"/>
          </a:xfrm>
        </p:grpSpPr>
        <p:grpSp>
          <p:nvGrpSpPr>
            <p:cNvPr id="188" name="Group 13"/>
            <p:cNvGrpSpPr/>
            <p:nvPr/>
          </p:nvGrpSpPr>
          <p:grpSpPr>
            <a:xfrm>
              <a:off x="539640" y="2205000"/>
              <a:ext cx="3600360" cy="1239840"/>
              <a:chOff x="539640" y="2205000"/>
              <a:chExt cx="3600360" cy="1239840"/>
            </a:xfrm>
          </p:grpSpPr>
          <p:pic>
            <p:nvPicPr>
              <p:cNvPr id="189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205000"/>
                <a:ext cx="1359000" cy="123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15"/>
              <p:cNvSpPr/>
              <p:nvPr/>
            </p:nvSpPr>
            <p:spPr>
              <a:xfrm>
                <a:off x="1908000" y="2565360"/>
                <a:ext cx="22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或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G=m g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6"/>
            <p:cNvSpPr/>
            <p:nvPr/>
          </p:nvSpPr>
          <p:spPr>
            <a:xfrm>
              <a:off x="1044360" y="2494080"/>
              <a:ext cx="4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17"/>
          <p:cNvSpPr/>
          <p:nvPr/>
        </p:nvSpPr>
        <p:spPr>
          <a:xfrm>
            <a:off x="179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、重力的大小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重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46836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公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596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西瓜的质量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5K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它受到的重力多大？一个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0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人，他的质量是多少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N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由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= mg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瓜的重力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=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kg×10N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的质量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 = G/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500N/10N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50k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西瓜所受重力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人的质量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8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苹果落地"/>
          <p:cNvPicPr/>
          <p:nvPr/>
        </p:nvPicPr>
        <p:blipFill>
          <a:blip r:embed="rId1"/>
          <a:stretch/>
        </p:blipFill>
        <p:spPr>
          <a:xfrm>
            <a:off x="179280" y="1413000"/>
            <a:ext cx="4643640" cy="441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932000" y="1197000"/>
            <a:ext cx="4211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图中树上熟透的苹果沿着竖直向下的方向下落，这说明了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重力的方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是什么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55640" y="404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观察与思考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430200" y="234936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、重力的方向总是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竖直向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0"/>
            <a:ext cx="34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四、重力的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>
            <a:hlinkClick r:id="rId1" action="ppaction://hlinksldjump"/>
          </p:cNvPr>
          <p:cNvSpPr/>
          <p:nvPr/>
        </p:nvSpPr>
        <p:spPr>
          <a:xfrm>
            <a:off x="2706840" y="52293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重力的方向指向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黑体"/>
              </a:rPr>
              <a:t>地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>
            <a:hlinkClick r:id="rId2" action="ppaction://hlinksldjump"/>
          </p:cNvPr>
          <p:cNvSpPr/>
          <p:nvPr/>
        </p:nvSpPr>
        <p:spPr>
          <a:xfrm>
            <a:off x="1028880" y="198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想想议议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重力方向"/>
          <p:cNvPicPr/>
          <p:nvPr/>
        </p:nvPicPr>
        <p:blipFill>
          <a:blip r:embed="rId3"/>
          <a:stretch/>
        </p:blipFill>
        <p:spPr>
          <a:xfrm>
            <a:off x="5029200" y="836640"/>
            <a:ext cx="4114800" cy="38415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>
            <a:hlinkClick r:id="rId4" action="ppaction://hlinksldjump"/>
          </p:cNvPr>
          <p:cNvSpPr/>
          <p:nvPr/>
        </p:nvSpPr>
        <p:spPr>
          <a:xfrm>
            <a:off x="4005360" y="2397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重力的方向指向哪里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5"/>
          <a:stretch/>
        </p:blipFill>
        <p:spPr>
          <a:xfrm>
            <a:off x="0" y="981000"/>
            <a:ext cx="50403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重垂线"/>
          <p:cNvPicPr/>
          <p:nvPr/>
        </p:nvPicPr>
        <p:blipFill>
          <a:blip r:embed="rId1"/>
          <a:stretch/>
        </p:blipFill>
        <p:spPr>
          <a:xfrm>
            <a:off x="4643280" y="1268280"/>
            <a:ext cx="4104000" cy="4572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0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重力方向的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319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通常我们把与重力方向一致的线叫重锤线。重锤线在生活和生产上有着广泛的应用。如图所示，利用重锤线可以检查墙砌得是否竖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788000" y="260280"/>
            <a:ext cx="3960720" cy="1081080"/>
          </a:xfrm>
          <a:prstGeom prst="wedgeEllipseCallout">
            <a:avLst>
              <a:gd name="adj1" fmla="val -44912"/>
              <a:gd name="adj2" fmla="val 1257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竖直向下的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660"/>
                            </p:stCondLst>
                            <p:childTnLst>
                              <p:par>
                                <p:cTn id="4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145240" y="18828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五、重力的作用点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407320" y="835920"/>
            <a:ext cx="38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重心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重力在物体上的作用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11280" y="183132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对于材料均匀、形状规则的物体，其重心位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几何中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5"/>
          <p:cNvGrpSpPr/>
          <p:nvPr/>
        </p:nvGrpSpPr>
        <p:grpSpPr>
          <a:xfrm>
            <a:off x="250920" y="3284640"/>
            <a:ext cx="8235360" cy="3111480"/>
            <a:chOff x="250920" y="3284640"/>
            <a:chExt cx="8235360" cy="3111480"/>
          </a:xfrm>
        </p:grpSpPr>
        <p:pic>
          <p:nvPicPr>
            <p:cNvPr id="214" name="Picture 6" descr=""/>
            <p:cNvPicPr/>
            <p:nvPr/>
          </p:nvPicPr>
          <p:blipFill>
            <a:blip r:embed="rId1"/>
            <a:stretch/>
          </p:blipFill>
          <p:spPr>
            <a:xfrm>
              <a:off x="637920" y="3284640"/>
              <a:ext cx="7848360" cy="26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7"/>
            <p:cNvGrpSpPr/>
            <p:nvPr/>
          </p:nvGrpSpPr>
          <p:grpSpPr>
            <a:xfrm>
              <a:off x="250920" y="3787920"/>
              <a:ext cx="7813080" cy="2608200"/>
              <a:chOff x="250920" y="3787920"/>
              <a:chExt cx="7813080" cy="2608200"/>
            </a:xfrm>
          </p:grpSpPr>
          <p:pic>
            <p:nvPicPr>
              <p:cNvPr id="216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3881520"/>
                <a:ext cx="175536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560" y="3957840"/>
                <a:ext cx="1877760" cy="236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10" descr="质量分布均匀的唱片的重心 "/>
              <p:cNvPicPr/>
              <p:nvPr/>
            </p:nvPicPr>
            <p:blipFill>
              <a:blip r:embed="rId4"/>
              <a:stretch/>
            </p:blipFill>
            <p:spPr>
              <a:xfrm>
                <a:off x="5787720" y="3787920"/>
                <a:ext cx="2276280" cy="236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268360" y="5589720"/>
            <a:ext cx="51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用</a:t>
            </a: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黑体"/>
              </a:rPr>
              <a:t>悬挂法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寻找重心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332000" y="1341360"/>
            <a:ext cx="6994440" cy="3591000"/>
            <a:chOff x="1332000" y="1341360"/>
            <a:chExt cx="6994440" cy="359100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1332000" y="1569960"/>
              <a:ext cx="472428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悬挂法测物体的重心位置%20[1]"/>
            <p:cNvPicPr/>
            <p:nvPr/>
          </p:nvPicPr>
          <p:blipFill>
            <a:blip r:embed="rId2"/>
            <a:stretch/>
          </p:blipFill>
          <p:spPr>
            <a:xfrm>
              <a:off x="6361200" y="1341360"/>
              <a:ext cx="196524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Rectangle 6"/>
          <p:cNvSpPr/>
          <p:nvPr/>
        </p:nvSpPr>
        <p:spPr>
          <a:xfrm>
            <a:off x="179280" y="189000"/>
            <a:ext cx="84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质量不均匀、形状不规则物体的重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质量分布均匀的唱片的重心 "/>
          <p:cNvPicPr/>
          <p:nvPr/>
        </p:nvPicPr>
        <p:blipFill>
          <a:blip r:embed="rId1"/>
          <a:stretch/>
        </p:blipFill>
        <p:spPr>
          <a:xfrm>
            <a:off x="990720" y="1981080"/>
            <a:ext cx="28922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539640" y="566100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注：物体的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黑体"/>
              </a:rPr>
              <a:t>重心不一定在物体上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2438280" y="35053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438280" y="4343400"/>
            <a:ext cx="6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33520" y="1096920"/>
            <a:ext cx="685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找出下面两个物体的重心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2"/>
          <a:srcRect l="1253" t="793" r="0" b="0"/>
          <a:stretch/>
        </p:blipFill>
        <p:spPr>
          <a:xfrm>
            <a:off x="5257800" y="1905120"/>
            <a:ext cx="2743200" cy="3276360"/>
          </a:xfrm>
          <a:prstGeom prst="rect">
            <a:avLst/>
          </a:prstGeom>
          <a:ln w="0">
            <a:noFill/>
          </a:ln>
        </p:spPr>
      </p:pic>
      <p:sp>
        <p:nvSpPr>
          <p:cNvPr id="230" name="Oval 8"/>
          <p:cNvSpPr/>
          <p:nvPr/>
        </p:nvSpPr>
        <p:spPr>
          <a:xfrm>
            <a:off x="23623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6553080" y="3886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6629400" y="3962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6622920" y="5059440"/>
            <a:ext cx="6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牛顿的故事2[1]"/>
          <p:cNvPicPr/>
          <p:nvPr/>
        </p:nvPicPr>
        <p:blipFill>
          <a:blip r:embed="rId1"/>
          <a:stretch/>
        </p:blipFill>
        <p:spPr>
          <a:xfrm>
            <a:off x="0" y="0"/>
            <a:ext cx="49338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Text Box 3"/>
          <p:cNvSpPr/>
          <p:nvPr/>
        </p:nvSpPr>
        <p:spPr>
          <a:xfrm>
            <a:off x="5076720" y="2060640"/>
            <a:ext cx="40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为什么熟了的苹果总是向地面下落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6400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观察与思考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7848720" cy="3313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0" y="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重心的应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-7920" y="4303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轻下重的物体比较稳定，也就是说重心越低越稳定。当不倒翁在竖立状态处于平衡时，重心和接触点的距离最小，即重心最低。偏离平衡位置后，重心总是升高的。因此，这种状态的平衡是稳定平衡。所以不倒翁无论如何摇摆，总是不倒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3068640"/>
            <a:ext cx="4825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摔跤运动员为了不被对手摔倒，采用曲腿和弯腰的姿势，使自己重心降低，达到不易被摔倒的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rcRect l="0" t="0" r="0" b="25034"/>
          <a:stretch/>
        </p:blipFill>
        <p:spPr>
          <a:xfrm>
            <a:off x="250920" y="260280"/>
            <a:ext cx="6194160" cy="2594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2005040410005"/>
          <p:cNvPicPr/>
          <p:nvPr/>
        </p:nvPicPr>
        <p:blipFill>
          <a:blip r:embed="rId2"/>
          <a:stretch/>
        </p:blipFill>
        <p:spPr>
          <a:xfrm>
            <a:off x="5292720" y="2924280"/>
            <a:ext cx="36082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362124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华文行楷"/>
              </a:rPr>
              <a:t>课堂小结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50920" y="14637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有引力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88080" y="24019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力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49440" y="319572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力的大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39720" y="517212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力的方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793440" y="6002280"/>
            <a:ext cx="24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力的作用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2700360" y="1463760"/>
            <a:ext cx="604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宇宙间任何两个物体，大到天体，小到灰尘之间都存在相互吸引的力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908000" y="2492280"/>
            <a:ext cx="65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地球的吸引而使物体受到的力，符号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5800320" y="321300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体所受的重力与物体的质量成正比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3132000" y="524016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竖直向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3492360" y="6076800"/>
            <a:ext cx="30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重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3"/>
          <p:cNvGrpSpPr/>
          <p:nvPr/>
        </p:nvGrpSpPr>
        <p:grpSpPr>
          <a:xfrm>
            <a:off x="2844000" y="3573360"/>
            <a:ext cx="4894560" cy="1756080"/>
            <a:chOff x="2844000" y="3573360"/>
            <a:chExt cx="4894560" cy="1756080"/>
          </a:xfrm>
        </p:grpSpPr>
        <p:grpSp>
          <p:nvGrpSpPr>
            <p:cNvPr id="252" name="Group 14"/>
            <p:cNvGrpSpPr/>
            <p:nvPr/>
          </p:nvGrpSpPr>
          <p:grpSpPr>
            <a:xfrm>
              <a:off x="2844000" y="3573360"/>
              <a:ext cx="4813560" cy="1171440"/>
              <a:chOff x="2844000" y="3573360"/>
              <a:chExt cx="4813560" cy="1171440"/>
            </a:xfrm>
          </p:grpSpPr>
          <p:sp>
            <p:nvSpPr>
              <p:cNvPr id="253" name="Text Box 15"/>
              <p:cNvSpPr/>
              <p:nvPr/>
            </p:nvSpPr>
            <p:spPr>
              <a:xfrm>
                <a:off x="2844000" y="3576600"/>
                <a:ext cx="128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G=m g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6"/>
              <p:cNvSpPr/>
              <p:nvPr/>
            </p:nvSpPr>
            <p:spPr>
              <a:xfrm>
                <a:off x="4701960" y="3573360"/>
                <a:ext cx="295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Tahoma"/>
                    <a:ea typeface="宋体"/>
                  </a:rPr>
                  <a:t>G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—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Tahoma"/>
                    <a:ea typeface="宋体"/>
                  </a:rPr>
                  <a:t>重力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—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Tahoma"/>
                    <a:ea typeface="宋体"/>
                  </a:rPr>
                  <a:t>牛顿（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Tahoma"/>
                    <a:ea typeface="宋体"/>
                  </a:rPr>
                  <a:t>N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Tahoma"/>
                    <a:ea typeface="宋体"/>
                  </a:rPr>
                  <a:t>）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7"/>
              <p:cNvSpPr/>
              <p:nvPr/>
            </p:nvSpPr>
            <p:spPr>
              <a:xfrm>
                <a:off x="4665960" y="4224240"/>
                <a:ext cx="294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ahoma"/>
                    <a:ea typeface="宋体"/>
                  </a:rPr>
                  <a:t>m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—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ahoma"/>
                    <a:ea typeface="宋体"/>
                  </a:rPr>
                  <a:t>质量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—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ahoma"/>
                    <a:ea typeface="宋体"/>
                  </a:rPr>
                  <a:t>千克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ahoma"/>
                    <a:ea typeface="宋体"/>
                  </a:rPr>
                  <a:t>(kg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18"/>
            <p:cNvSpPr/>
            <p:nvPr/>
          </p:nvSpPr>
          <p:spPr>
            <a:xfrm>
              <a:off x="4643280" y="4748040"/>
              <a:ext cx="30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g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9.8N/k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916680"/>
            <a:chOff x="0" y="0"/>
            <a:chExt cx="9144000" cy="6916680"/>
          </a:xfrm>
        </p:grpSpPr>
        <p:sp>
          <p:nvSpPr>
            <p:cNvPr id="258" name="Rectangle 3"/>
            <p:cNvSpPr/>
            <p:nvPr/>
          </p:nvSpPr>
          <p:spPr>
            <a:xfrm>
              <a:off x="5635800" y="6253200"/>
              <a:ext cx="350820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>
              <a:off x="1380960" y="6253200"/>
              <a:ext cx="425484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0" y="6253200"/>
              <a:ext cx="138096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联系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5635800" y="5187960"/>
              <a:ext cx="3508200" cy="1065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天平、台秤、杆秤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380960" y="5187960"/>
              <a:ext cx="4254840" cy="1065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弹簧测力计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0" y="5187960"/>
              <a:ext cx="1380960" cy="1065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测量工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635800" y="4524480"/>
              <a:ext cx="350820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千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k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1380960" y="4524480"/>
              <a:ext cx="425484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牛顿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0" y="4524480"/>
              <a:ext cx="138096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单位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5635800" y="3860640"/>
              <a:ext cx="3508200" cy="663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没有方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1380960" y="3860640"/>
              <a:ext cx="4254840" cy="663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竖直向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0" y="3860640"/>
              <a:ext cx="1380960" cy="663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方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5635800" y="2664000"/>
              <a:ext cx="3508200" cy="1196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质量是物质的属性，与其他因素无关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1380960" y="2664000"/>
              <a:ext cx="4254840" cy="1196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物体所受的重力随不同位置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变化而变化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0" y="2664000"/>
              <a:ext cx="1380960" cy="1196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影响因素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5635800" y="1384200"/>
              <a:ext cx="3508200" cy="1279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物体所含物质的多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1380960" y="1384200"/>
              <a:ext cx="4254840" cy="1279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由于地球的吸引而使物体受到的力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>
              <a:off x="0" y="1384200"/>
              <a:ext cx="1380960" cy="1279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定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>
              <a:off x="5635800" y="720720"/>
              <a:ext cx="350820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>
              <a:off x="1380960" y="720720"/>
              <a:ext cx="425484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0" y="720720"/>
              <a:ext cx="138096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符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>
              <a:off x="5635800" y="0"/>
              <a:ext cx="3508200" cy="72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质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1380960" y="0"/>
              <a:ext cx="4254840" cy="72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重力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>
              <a:off x="0" y="0"/>
              <a:ext cx="1380960" cy="72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0" y="44280"/>
              <a:ext cx="914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0" y="6885000"/>
              <a:ext cx="914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9"/>
            <p:cNvSpPr/>
            <p:nvPr/>
          </p:nvSpPr>
          <p:spPr>
            <a:xfrm>
              <a:off x="34920" y="0"/>
              <a:ext cx="0" cy="69166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0"/>
            <p:cNvSpPr/>
            <p:nvPr/>
          </p:nvSpPr>
          <p:spPr>
            <a:xfrm>
              <a:off x="9109080" y="0"/>
              <a:ext cx="0" cy="69166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1"/>
            <p:cNvSpPr/>
            <p:nvPr/>
          </p:nvSpPr>
          <p:spPr>
            <a:xfrm>
              <a:off x="0" y="720720"/>
              <a:ext cx="914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2"/>
            <p:cNvSpPr/>
            <p:nvPr/>
          </p:nvSpPr>
          <p:spPr>
            <a:xfrm>
              <a:off x="1380960" y="0"/>
              <a:ext cx="0" cy="69166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5635800" y="0"/>
              <a:ext cx="0" cy="691668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0" y="1384200"/>
              <a:ext cx="914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5"/>
            <p:cNvSpPr/>
            <p:nvPr/>
          </p:nvSpPr>
          <p:spPr>
            <a:xfrm>
              <a:off x="0" y="2664000"/>
              <a:ext cx="914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6"/>
            <p:cNvSpPr/>
            <p:nvPr/>
          </p:nvSpPr>
          <p:spPr>
            <a:xfrm>
              <a:off x="0" y="3860640"/>
              <a:ext cx="914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7"/>
            <p:cNvSpPr/>
            <p:nvPr/>
          </p:nvSpPr>
          <p:spPr>
            <a:xfrm>
              <a:off x="0" y="4524480"/>
              <a:ext cx="914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0" y="5187960"/>
              <a:ext cx="914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9"/>
            <p:cNvSpPr/>
            <p:nvPr/>
          </p:nvSpPr>
          <p:spPr>
            <a:xfrm>
              <a:off x="0" y="6253200"/>
              <a:ext cx="914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0" y="228600"/>
            <a:ext cx="914400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力：由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而使物体受到的力叫重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力的大小跟物体的质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  G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力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质量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  g=9.8N/k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意义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力的方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心：重力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叫重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质量分布均匀、形状规则的物体重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它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62320" y="914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地球的吸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029200" y="1676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成正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769608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m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447920" y="2362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4191120" y="2362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牛顿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(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7391520" y="2362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600200" y="3124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千克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(k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04920" y="38098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质量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千克的物体受到的重力是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9.8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牛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590920" y="457200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竖直向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32004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作用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5219640" y="5877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几何中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611280" y="1110600"/>
            <a:ext cx="8064360" cy="5661720"/>
            <a:chOff x="611280" y="1110600"/>
            <a:chExt cx="8064360" cy="5661720"/>
          </a:xfrm>
        </p:grpSpPr>
        <p:sp>
          <p:nvSpPr>
            <p:cNvPr id="308" name="Rectangle 3"/>
            <p:cNvSpPr/>
            <p:nvPr/>
          </p:nvSpPr>
          <p:spPr>
            <a:xfrm>
              <a:off x="611280" y="1110600"/>
              <a:ext cx="80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画出下图所示斜面上小球所受重力的示意图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Picture 4" descr=""/>
            <p:cNvPicPr/>
            <p:nvPr/>
          </p:nvPicPr>
          <p:blipFill>
            <a:blip r:embed="rId1"/>
            <a:stretch/>
          </p:blipFill>
          <p:spPr>
            <a:xfrm>
              <a:off x="1763640" y="1989000"/>
              <a:ext cx="5256360" cy="47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5"/>
            <p:cNvSpPr/>
            <p:nvPr/>
          </p:nvSpPr>
          <p:spPr>
            <a:xfrm>
              <a:off x="3708360" y="6021360"/>
              <a:ext cx="19432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Oval 6"/>
          <p:cNvSpPr/>
          <p:nvPr/>
        </p:nvSpPr>
        <p:spPr>
          <a:xfrm>
            <a:off x="3924360" y="3284640"/>
            <a:ext cx="14436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3995640" y="3429000"/>
            <a:ext cx="0" cy="187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050000" y="4449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216000" y="1169640"/>
            <a:ext cx="8388360" cy="5051880"/>
            <a:chOff x="216000" y="1169640"/>
            <a:chExt cx="8388360" cy="5051880"/>
          </a:xfrm>
        </p:grpSpPr>
        <p:sp>
          <p:nvSpPr>
            <p:cNvPr id="315" name="Rectangle 3"/>
            <p:cNvSpPr/>
            <p:nvPr/>
          </p:nvSpPr>
          <p:spPr>
            <a:xfrm>
              <a:off x="216000" y="1169640"/>
              <a:ext cx="82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图中静止的小球重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N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请用力的示意图画出小球所受的重力和绳对小球的拉力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4"/>
            <p:cNvGrpSpPr/>
            <p:nvPr/>
          </p:nvGrpSpPr>
          <p:grpSpPr>
            <a:xfrm>
              <a:off x="3376800" y="1844640"/>
              <a:ext cx="5227560" cy="4376880"/>
              <a:chOff x="3376800" y="1844640"/>
              <a:chExt cx="5227560" cy="4376880"/>
            </a:xfrm>
          </p:grpSpPr>
          <p:pic>
            <p:nvPicPr>
              <p:cNvPr id="317" name="Picture 5" descr="Image8"/>
              <p:cNvPicPr/>
              <p:nvPr/>
            </p:nvPicPr>
            <p:blipFill>
              <a:blip r:embed="rId1"/>
              <a:stretch/>
            </p:blipFill>
            <p:spPr>
              <a:xfrm>
                <a:off x="3376800" y="1844640"/>
                <a:ext cx="5227560" cy="437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Rectangle 6"/>
              <p:cNvSpPr/>
              <p:nvPr/>
            </p:nvSpPr>
            <p:spPr>
              <a:xfrm>
                <a:off x="3664080" y="2164680"/>
                <a:ext cx="1152720" cy="100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Oval 7"/>
          <p:cNvSpPr/>
          <p:nvPr/>
        </p:nvSpPr>
        <p:spPr>
          <a:xfrm>
            <a:off x="5608800" y="5141880"/>
            <a:ext cx="14436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5680080" y="5286240"/>
            <a:ext cx="0" cy="152748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5803920" y="617868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G=10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V="1">
            <a:off x="5680080" y="3573000"/>
            <a:ext cx="0" cy="1584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5805000" y="337032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F=10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684360" y="2565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因为小球保持静止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拉力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F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和重力平衡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所以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1693800" y="458136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F=G=10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 一头大象的质量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站在地面上对地面的压力是多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N/k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26920" y="2565360"/>
            <a:ext cx="1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55640" y="3860640"/>
            <a:ext cx="55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　Ｇ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=mg=4500kgx10N/k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=45000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177280" y="2682720"/>
            <a:ext cx="46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m=4.5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吨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=4500k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345400" y="5157720"/>
            <a:ext cx="325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F=G=45000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1521720" y="6167520"/>
            <a:ext cx="55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答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大象对地面的压力是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45000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39640" y="1125360"/>
            <a:ext cx="817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宇航员从月球取回一块质量为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千克的矿石标本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拿到地球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块矿石的质量是多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受到的重力是多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重 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9280" y="3284640"/>
            <a:ext cx="8785080" cy="3255480"/>
            <a:chOff x="179280" y="3284640"/>
            <a:chExt cx="8785080" cy="3255480"/>
          </a:xfrm>
        </p:grpSpPr>
        <p:pic>
          <p:nvPicPr>
            <p:cNvPr id="49" name="Picture 3" descr=""/>
            <p:cNvPicPr/>
            <p:nvPr/>
          </p:nvPicPr>
          <p:blipFill>
            <a:blip r:embed="rId1"/>
            <a:stretch/>
          </p:blipFill>
          <p:spPr>
            <a:xfrm>
              <a:off x="179280" y="3284640"/>
              <a:ext cx="4013640" cy="32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" descr=""/>
            <p:cNvPicPr/>
            <p:nvPr/>
          </p:nvPicPr>
          <p:blipFill>
            <a:blip r:embed="rId2"/>
            <a:stretch/>
          </p:blipFill>
          <p:spPr>
            <a:xfrm>
              <a:off x="4648680" y="3284640"/>
              <a:ext cx="4315680" cy="325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667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有引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84360" y="1052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宇宙中任何两个物体之间，大到天体，小至灰尘，都存在互相吸引的力，即万有引力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71280" y="4292640"/>
            <a:ext cx="687708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什么高处的水要往低处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什么物体要落回地面上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瀑布"/>
          <p:cNvPicPr/>
          <p:nvPr/>
        </p:nvPicPr>
        <p:blipFill>
          <a:blip r:embed="rId1"/>
          <a:stretch/>
        </p:blipFill>
        <p:spPr>
          <a:xfrm>
            <a:off x="1187280" y="0"/>
            <a:ext cx="5040360" cy="419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4"/>
          <p:cNvGraphicFramePr/>
          <p:nvPr/>
        </p:nvGraphicFramePr>
        <p:xfrm>
          <a:off x="7596360" y="189000"/>
          <a:ext cx="912600" cy="91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89000"/>
                    <a:ext cx="91260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5"/>
          <p:cNvSpPr/>
          <p:nvPr/>
        </p:nvSpPr>
        <p:spPr>
          <a:xfrm>
            <a:off x="1187280" y="5877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物体由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受到地球的吸引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19464E-006 L -0.0026 0.61535 E">
                                      <p:cBhvr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227600" y="18828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重力：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11280" y="4629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由于地球的吸引而使物体受到的力叫重力。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71640" y="14526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符号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71640" y="21337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单位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42920" y="2852640"/>
            <a:ext cx="1712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35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地面附近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体都受重力的作用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79280" y="4149720"/>
            <a:ext cx="9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力的施力物体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地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受力物体是研究对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79280" y="4797360"/>
            <a:ext cx="76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力是万有引力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部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24000" y="5516640"/>
            <a:ext cx="90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力与物体的质量及所处的地理位置有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51280" y="126792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猜想一下它们可能的情况有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64000" y="2637000"/>
            <a:ext cx="5580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物体所受重力的大小与其质量的大小无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物体所受重力的大小与其质量的大小有关，且成正比关系？还是反比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0" y="1197000"/>
            <a:ext cx="3780000" cy="4968720"/>
          </a:xfrm>
          <a:prstGeom prst="cloudCallout">
            <a:avLst>
              <a:gd name="adj1" fmla="val -41305"/>
              <a:gd name="adj2" fmla="val 5805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地球表面上的物体既有质量，又受到重力，物体所受的重力与其质量之间有无关系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692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重力的大小跟什么因素有关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140360" y="404640"/>
            <a:ext cx="435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设计仪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弹簧测力计、钩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分别用弹簧测力计测量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50g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00g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50g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钩码所受的重力。并填在相应表格内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50920" y="1557360"/>
            <a:ext cx="3384360" cy="2663640"/>
          </a:xfrm>
          <a:prstGeom prst="wedgeRoundRectCallout">
            <a:avLst>
              <a:gd name="adj1" fmla="val 69370"/>
              <a:gd name="adj2" fmla="val 57986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们用什么来证明物体的重力和其质量的关系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24000" y="515772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补充：把钩码挂在弹簧测力计上，当钩码静止时，弹簧测力计的示数等于钩码所受重力的大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341440" y="56610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0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78144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860720" y="5734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404000" y="3326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力的大小可用弹簧测力计来测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1187280" y="981000"/>
            <a:ext cx="6913080" cy="3600000"/>
            <a:chOff x="1187280" y="981000"/>
            <a:chExt cx="6913080" cy="3600000"/>
          </a:xfrm>
        </p:grpSpPr>
        <p:pic>
          <p:nvPicPr>
            <p:cNvPr id="79" name="Picture 7" descr="3"/>
            <p:cNvPicPr/>
            <p:nvPr/>
          </p:nvPicPr>
          <p:blipFill>
            <a:blip r:embed="rId1"/>
            <a:stretch/>
          </p:blipFill>
          <p:spPr>
            <a:xfrm>
              <a:off x="1187280" y="981000"/>
              <a:ext cx="2106720" cy="25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8" descr="4"/>
            <p:cNvPicPr/>
            <p:nvPr/>
          </p:nvPicPr>
          <p:blipFill>
            <a:blip r:embed="rId2"/>
            <a:stretch/>
          </p:blipFill>
          <p:spPr>
            <a:xfrm>
              <a:off x="3745440" y="1096920"/>
              <a:ext cx="1793880" cy="29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9" descr="5"/>
            <p:cNvPicPr/>
            <p:nvPr/>
          </p:nvPicPr>
          <p:blipFill>
            <a:blip r:embed="rId3"/>
            <a:stretch/>
          </p:blipFill>
          <p:spPr>
            <a:xfrm>
              <a:off x="6304320" y="1096920"/>
              <a:ext cx="1796040" cy="348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10"/>
          <p:cNvGrpSpPr/>
          <p:nvPr/>
        </p:nvGrpSpPr>
        <p:grpSpPr>
          <a:xfrm>
            <a:off x="468360" y="4076640"/>
            <a:ext cx="5616360" cy="2521080"/>
            <a:chOff x="468360" y="4076640"/>
            <a:chExt cx="5616360" cy="2521080"/>
          </a:xfrm>
        </p:grpSpPr>
        <p:grpSp>
          <p:nvGrpSpPr>
            <p:cNvPr id="83" name="Group 11"/>
            <p:cNvGrpSpPr/>
            <p:nvPr/>
          </p:nvGrpSpPr>
          <p:grpSpPr>
            <a:xfrm>
              <a:off x="468360" y="4076640"/>
              <a:ext cx="5616360" cy="2521080"/>
              <a:chOff x="468360" y="4076640"/>
              <a:chExt cx="5616360" cy="2521080"/>
            </a:xfrm>
          </p:grpSpPr>
          <p:sp>
            <p:nvSpPr>
              <p:cNvPr id="84" name="Text Box 12"/>
              <p:cNvSpPr/>
              <p:nvPr/>
            </p:nvSpPr>
            <p:spPr>
              <a:xfrm>
                <a:off x="4829760" y="4371840"/>
                <a:ext cx="107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0.15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13"/>
              <p:cNvGrpSpPr/>
              <p:nvPr/>
            </p:nvGrpSpPr>
            <p:grpSpPr>
              <a:xfrm>
                <a:off x="468360" y="4076640"/>
                <a:ext cx="5616360" cy="2521080"/>
                <a:chOff x="468360" y="4076640"/>
                <a:chExt cx="5616360" cy="2521080"/>
              </a:xfrm>
            </p:grpSpPr>
            <p:grpSp>
              <p:nvGrpSpPr>
                <p:cNvPr id="86" name="Group 14"/>
                <p:cNvGrpSpPr/>
                <p:nvPr/>
              </p:nvGrpSpPr>
              <p:grpSpPr>
                <a:xfrm>
                  <a:off x="468360" y="4076640"/>
                  <a:ext cx="5616360" cy="2521080"/>
                  <a:chOff x="468360" y="4076640"/>
                  <a:chExt cx="5616360" cy="2521080"/>
                </a:xfrm>
              </p:grpSpPr>
              <p:sp>
                <p:nvSpPr>
                  <p:cNvPr id="87" name="Line 15"/>
                  <p:cNvSpPr/>
                  <p:nvPr/>
                </p:nvSpPr>
                <p:spPr>
                  <a:xfrm>
                    <a:off x="468360" y="4076640"/>
                    <a:ext cx="5616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16"/>
                  <p:cNvSpPr/>
                  <p:nvPr/>
                </p:nvSpPr>
                <p:spPr>
                  <a:xfrm>
                    <a:off x="6011640" y="4076640"/>
                    <a:ext cx="0" cy="252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" name="Line 17"/>
                <p:cNvSpPr/>
                <p:nvPr/>
              </p:nvSpPr>
              <p:spPr>
                <a:xfrm>
                  <a:off x="468360" y="4076640"/>
                  <a:ext cx="5616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18"/>
                <p:cNvSpPr/>
                <p:nvPr/>
              </p:nvSpPr>
              <p:spPr>
                <a:xfrm>
                  <a:off x="2155680" y="4076640"/>
                  <a:ext cx="0" cy="252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19"/>
                <p:cNvSpPr/>
                <p:nvPr/>
              </p:nvSpPr>
              <p:spPr>
                <a:xfrm>
                  <a:off x="3401640" y="4076640"/>
                  <a:ext cx="0" cy="252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0"/>
                <p:cNvSpPr/>
                <p:nvPr/>
              </p:nvSpPr>
              <p:spPr>
                <a:xfrm>
                  <a:off x="4679640" y="4076640"/>
                  <a:ext cx="0" cy="252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 Box 21"/>
                <p:cNvSpPr/>
                <p:nvPr/>
              </p:nvSpPr>
              <p:spPr>
                <a:xfrm>
                  <a:off x="740880" y="4226040"/>
                  <a:ext cx="1519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质量</a:t>
                  </a:r>
                  <a:r>
                    <a:rPr b="1" lang="zh-CN" sz="36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Text Box 22"/>
                <p:cNvSpPr/>
                <p:nvPr/>
              </p:nvSpPr>
              <p:spPr>
                <a:xfrm>
                  <a:off x="742320" y="4749840"/>
                  <a:ext cx="1018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Arial"/>
                    </a:rPr>
                    <a:t>(kg)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Text Box 23"/>
                <p:cNvSpPr/>
                <p:nvPr/>
              </p:nvSpPr>
              <p:spPr>
                <a:xfrm>
                  <a:off x="831960" y="53956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重力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24"/>
                <p:cNvSpPr/>
                <p:nvPr/>
              </p:nvSpPr>
              <p:spPr>
                <a:xfrm>
                  <a:off x="808920" y="5937120"/>
                  <a:ext cx="816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Arial"/>
                    </a:rPr>
                    <a:t>(N)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5"/>
                <p:cNvSpPr/>
                <p:nvPr/>
              </p:nvSpPr>
              <p:spPr>
                <a:xfrm>
                  <a:off x="2267640" y="4316400"/>
                  <a:ext cx="1070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6"/>
                <p:cNvSpPr/>
                <p:nvPr/>
              </p:nvSpPr>
              <p:spPr>
                <a:xfrm>
                  <a:off x="3572640" y="4316400"/>
                  <a:ext cx="816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7"/>
                <p:cNvSpPr/>
                <p:nvPr/>
              </p:nvSpPr>
              <p:spPr>
                <a:xfrm>
                  <a:off x="468360" y="4076640"/>
                  <a:ext cx="0" cy="252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8"/>
                <p:cNvSpPr/>
                <p:nvPr/>
              </p:nvSpPr>
              <p:spPr>
                <a:xfrm>
                  <a:off x="468360" y="6597720"/>
                  <a:ext cx="554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9"/>
                <p:cNvSpPr/>
                <p:nvPr/>
              </p:nvSpPr>
              <p:spPr>
                <a:xfrm>
                  <a:off x="468360" y="5337000"/>
                  <a:ext cx="5543280" cy="36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Text Box 30"/>
            <p:cNvSpPr/>
            <p:nvPr/>
          </p:nvSpPr>
          <p:spPr>
            <a:xfrm>
              <a:off x="1549440" y="537192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4:07:09Z</dcterms:created>
  <dc:creator/>
  <dc:description/>
  <cp:keywords/>
  <dc:language>en-US</dc:language>
  <cp:lastModifiedBy/>
  <dcterms:modified xsi:type="dcterms:W3CDTF">2015-10-24T10:35:53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